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jpeg" ContentType="image/jpeg"/>
  <Override PartName="/ppt/media/image15.jpeg" ContentType="image/jpe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9A89-5CAB-4C5E-B3BF-9713E76F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3C939-E8B7-4FD1-84D2-0B0C5FDC12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3E17-69BC-4981-8924-1312644F1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EF6D-5A37-4654-AAEE-34F229B7E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9652E-67D4-4DB9-BFBB-1CB93FDEAE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8458-860C-4C1A-A18E-438B97072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906C-6777-431F-867A-7FC74E6F0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BCD2-E45F-4955-9FF4-CA378EE56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1A364-79CD-457A-BAB2-860BF9665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10DDD-1215-412B-86A9-53AB673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C701-F9C7-473B-B2E4-0DB6D3F46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84B7-8808-4106-A6A6-C73F82E6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CB15-10C1-4844-94AD-9CEBE849BA0A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Privatsphäre und Interne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Björn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ist bei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an 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chuelerVZ 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9640" y="1699920"/>
            <a:ext cx="8229600" cy="35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6a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2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6b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9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6c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2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6d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3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7a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  8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7b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19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Klasse 7c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20 Schüler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Freundschaften... ja wie jetz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n den Standardeinstellungen dürfen nur eure Freunde auf euer Profil, eure Gruppen und eure Fotos zugreif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o können Fremde euch nicht beobachten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Schaut in euren Einstellungen nach und ändert das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Tolle Sache, so ein Freundschaftsangebot..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ber auch nur, wenn ihr euch sicher seid. 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icht jeder ist euer Freund und Menschen, 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ie ihr nicht kennt, schon gar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71680" y="1356840"/>
            <a:ext cx="792936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7" descr="G:\Chaos macht Schule\Gesamtschule Blankenese\Powerpoint\Profil.gesperrt.png"/>
          <p:cNvPicPr/>
          <p:nvPr/>
        </p:nvPicPr>
        <p:blipFill>
          <a:blip r:embed="rId3"/>
          <a:stretch/>
        </p:blipFill>
        <p:spPr>
          <a:xfrm>
            <a:off x="857160" y="1785960"/>
            <a:ext cx="7363080" cy="34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457200" y="1357200"/>
            <a:ext cx="82296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7" descr="G:\Chaos macht Schule\Gesamtschule Blankenese\Powerpoint\Profil.offen.png"/>
          <p:cNvPicPr/>
          <p:nvPr/>
        </p:nvPicPr>
        <p:blipFill>
          <a:blip r:embed="rId3"/>
          <a:stretch/>
        </p:blipFill>
        <p:spPr>
          <a:xfrm>
            <a:off x="2071800" y="1214280"/>
            <a:ext cx="507204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chuelerVZ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chtig: Freundschaft hat was mit Vertrauen zu tu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ur weil euch jemand eine Freundschaft anbietet, heißt das noch lange nicht, dass ihr die auch annehmen müss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Oder würdet ihr jeden in euer Zimmer rein lassen, nur weil er oder sie an der Tür klopft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Viele „Freunde“ zu haben, ist nicht cool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chte Freunde findet man nicht im Interne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428760" y="164304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Wie könnt ihr eure persönlichen Daten</a:t>
            </a:r>
            <a:br>
              <a:rPr sz="2600"/>
            </a:b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vor Diebstahl schütz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Lesen, denken, lesen, nochmal denken 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und dann erst machen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Muss ich mich dort wirklich anmeld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lche Daten muss ich angeb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lche Einstellungen kann ich vornehm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6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m gebe ich da eigentlich meine Daten?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as lernen wir aus all dem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28760" y="1642680"/>
            <a:ext cx="82296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Im Internet gibt es keine Polizei, wenn ihr Hilfe braucht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Passt auf, was ihr im Internet über euch preisgebt und schreibt nur das, was wirklich die ganze Welt wissen darf.</a:t>
            </a:r>
            <a:br>
              <a:rPr sz="2600"/>
            </a:b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„Das können eh nur meine Freunde lesen“ gibt es nicht!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inge die einmal im Netz sind, sind nur sehr schwer oder auch gar nicht zu entfernen. Selbst wenn Daten entfernt werden, können sie immer noch woanders wieder auftauchen.</a:t>
            </a:r>
            <a:br>
              <a:rPr sz="2600"/>
            </a:br>
            <a:r>
              <a:rPr b="1" lang="de-DE" sz="2600" spc="-1" strike="noStrike">
                <a:solidFill>
                  <a:srgbClr val="ffffff"/>
                </a:solidFill>
                <a:latin typeface="Calibri"/>
              </a:rPr>
              <a:t>„Das Internet vergisst nichts!“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000"/>
                </a:solidFill>
                <a:latin typeface="Calibri"/>
              </a:rPr>
              <a:t>Die 4 goldenen Regel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28760" y="1428840"/>
            <a:ext cx="8464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Denkt immer nach, bevor ihr im Internet etwas schreibt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Auch in Foren oder im SchülerVZ kann das jeder lesen!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Nicht nur alle eure Mitschüler, sondern sogar eure Lehrer, Eltern und Fremde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einfach Fotos von euch raus und ladet keine Fotos von anderen ins Internet, ohne sie zu frage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Wenn möglich, benutzt einen Spitznamen (Nickname).</a:t>
            </a:r>
            <a:br>
              <a:rPr sz="2600"/>
            </a:b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Euren echten Namen könnt ihr nicht so einfach wechsel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2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600" spc="-1" strike="noStrike">
                <a:solidFill>
                  <a:srgbClr val="ffffff"/>
                </a:solidFill>
                <a:latin typeface="Calibri"/>
              </a:rPr>
              <a:t>Gebt nicht wahllos eure Adresse weg. Auch eure Handynummer geht nur eure Freunde etwas an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64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Wer von Euch spielt…?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" descr="C:\Dokumente und Einstellungen\Administrator\Desktop\hwg\bilder wow\worldmap.gif"/>
          <p:cNvPicPr/>
          <p:nvPr/>
        </p:nvPicPr>
        <p:blipFill>
          <a:blip r:embed="rId3"/>
          <a:stretch/>
        </p:blipFill>
        <p:spPr>
          <a:xfrm>
            <a:off x="2357280" y="1357200"/>
            <a:ext cx="3429000" cy="2511360"/>
          </a:xfrm>
          <a:prstGeom prst="rect">
            <a:avLst/>
          </a:prstGeom>
          <a:ln w="0">
            <a:noFill/>
          </a:ln>
        </p:spPr>
      </p:pic>
      <p:pic>
        <p:nvPicPr>
          <p:cNvPr id="153" name="Grafik 8" descr="mmorpg-fantasy-metin2-screenshot6.jpg"/>
          <p:cNvPicPr/>
          <p:nvPr/>
        </p:nvPicPr>
        <p:blipFill>
          <a:blip r:embed="rId4"/>
          <a:stretch/>
        </p:blipFill>
        <p:spPr>
          <a:xfrm>
            <a:off x="5572080" y="3286080"/>
            <a:ext cx="2959200" cy="1967040"/>
          </a:xfrm>
          <a:prstGeom prst="rect">
            <a:avLst/>
          </a:prstGeom>
          <a:ln w="0">
            <a:noFill/>
          </a:ln>
        </p:spPr>
      </p:pic>
      <p:pic>
        <p:nvPicPr>
          <p:cNvPr id="154" name="Inhaltsplatzhalter 6" descr="flyffScreenshot2.jpg"/>
          <p:cNvPicPr/>
          <p:nvPr/>
        </p:nvPicPr>
        <p:blipFill>
          <a:blip r:embed="rId5"/>
          <a:stretch/>
        </p:blipFill>
        <p:spPr>
          <a:xfrm>
            <a:off x="785880" y="3714840"/>
            <a:ext cx="2768400" cy="221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lche Spiele spielt ihr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findet ihr daran cool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2785680"/>
            <a:ext cx="8229600" cy="20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stört eure Eltern an diesen Spielen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2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Was Eltern an den Spielen nicht so toll fi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e Dauer der Abenteuer ist oft sehr la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e Spiele können leicht süchtig ma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Man muss oft online sein, um den Anschluss nicht zu verpass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Viele Spiele verursachen laufende Kos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Die Spiele haben kein End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wir Euch empfehl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lant Eure Spiele genau wie andere Termine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Meldet lange Quests bei Euren Eltern a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eigt euren Eltern, dass ihr die anderen Aufgaben auch erled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grenzt eure wöchentlichen Ausgaben für das Spiel (bei Flyff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857160"/>
            <a:ext cx="8229600" cy="185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s Wachbleiben!</a:t>
            </a:r>
            <a:br>
              <a:rPr sz="4000"/>
            </a:br>
            <a:br>
              <a:rPr sz="1200"/>
            </a:br>
            <a:br>
              <a:rPr sz="1200"/>
            </a:br>
            <a:br>
              <a:rPr sz="1200"/>
            </a:br>
            <a:r>
              <a:rPr b="1" i="1" lang="de-DE" sz="4400" spc="-1" strike="noStrike">
                <a:solidFill>
                  <a:srgbClr val="ffffff"/>
                </a:solidFill>
                <a:latin typeface="Calibri"/>
              </a:rPr>
              <a:t>Fragen? </a:t>
            </a: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Immer her damit. :-)</a:t>
            </a:r>
            <a:br>
              <a:rPr sz="4000"/>
            </a:b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428760" y="18572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Björn  -  bjoern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ie funktioniert eigentlich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s Internet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357200"/>
            <a:ext cx="8229600" cy="55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60" name="Picture 2" descr="G:\internet.gif"/>
          <p:cNvPicPr/>
          <p:nvPr/>
        </p:nvPicPr>
        <p:blipFill>
          <a:blip r:embed="rId2"/>
          <a:stretch/>
        </p:blipFill>
        <p:spPr>
          <a:xfrm>
            <a:off x="1928880" y="1571760"/>
            <a:ext cx="5214960" cy="4643280"/>
          </a:xfrm>
          <a:prstGeom prst="rect">
            <a:avLst/>
          </a:prstGeom>
          <a:ln w="0">
            <a:noFill/>
          </a:ln>
        </p:spPr>
      </p:pic>
      <p:sp>
        <p:nvSpPr>
          <p:cNvPr id="61" name="Gerade Verbindung 6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Verbindungs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P-Adresse -&gt; Wohnort, Sprach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triebssystem, Brows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lauf der Seitenaufruf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okies…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6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7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9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Cookies: Beispiel Amaz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71" name="Picture 2" descr="G:\Chaos macht Schule\Mittelstufe - Wilhelm-Gymnasium - HH-Harvestehude\Keynote\amazon.png"/>
          <p:cNvPicPr/>
          <p:nvPr/>
        </p:nvPicPr>
        <p:blipFill>
          <a:blip r:embed="rId2"/>
          <a:stretch/>
        </p:blipFill>
        <p:spPr>
          <a:xfrm>
            <a:off x="2928960" y="1714680"/>
            <a:ext cx="4500720" cy="4429080"/>
          </a:xfrm>
          <a:prstGeom prst="rect">
            <a:avLst/>
          </a:prstGeom>
          <a:ln w="0">
            <a:noFill/>
          </a:ln>
        </p:spPr>
      </p:pic>
      <p:sp>
        <p:nvSpPr>
          <p:cNvPr id="72" name="Rechteck 4"/>
          <p:cNvSpPr/>
          <p:nvPr/>
        </p:nvSpPr>
        <p:spPr>
          <a:xfrm>
            <a:off x="357120" y="1785960"/>
            <a:ext cx="25718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mazon weiß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was ich mir in der Vergangenhei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geguckt habe, </a:t>
            </a:r>
            <a:br>
              <a:rPr sz="2000"/>
            </a:b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und schlägt mir entspreche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andere Produkte vo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o kann Amazon me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Surfverhal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nachvollziehen u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000" spc="-1" strike="noStrike">
                <a:solidFill>
                  <a:srgbClr val="ffffff"/>
                </a:solidFill>
                <a:latin typeface="Calibri"/>
              </a:rPr>
              <a:t>zielgerichtete Werbung schalt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Gerade Verbindung 7"/>
          <p:cNvSpPr/>
          <p:nvPr/>
        </p:nvSpPr>
        <p:spPr>
          <a:xfrm>
            <a:off x="28584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„</a:t>
            </a: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Vorratsdatenspeicherung“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Der Staat liest mit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hrzeit und IP-Adress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ufgerufene Webseite (URL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sender, Empfänger und Inhalt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jeder Email und SM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ufnummern und Anrufdauer bei Telefon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tandort (Funkzelle) von Handy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lche Spuren hinterlässt man</a:t>
            </a:r>
            <a:br>
              <a:rPr sz="4000"/>
            </a:b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beim Surf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1" lang="de-DE" sz="3200" spc="-1" strike="noStrike">
                <a:solidFill>
                  <a:srgbClr val="ffffff"/>
                </a:solidFill>
                <a:latin typeface="Calibri"/>
              </a:rPr>
              <a:t>Freiwillige“ Da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oziale Netzwerke“ und Chat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ersönliche Benutzerprofil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rchiv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Unverschlüsselte Passwörter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3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13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c000"/>
                </a:solidFill>
                <a:latin typeface="Calibri"/>
              </a:rPr>
              <a:t>Soziale Netzwerk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r von euch nutzt „</a:t>
            </a:r>
            <a:r>
              <a:rPr b="1" i="1" lang="de-DE" sz="3200" spc="-1" strike="noStrike">
                <a:solidFill>
                  <a:srgbClr val="ffffff"/>
                </a:solidFill>
                <a:latin typeface="Calibri"/>
              </a:rPr>
              <a:t>Soziale Netzwerke“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88" name="Picture 3" descr="G:\Chaos macht Schule\Mittelstufe - Wilhelm-Gymnasium - HH-Harvestehude\Keynote\screenshot 50.png"/>
          <p:cNvPicPr/>
          <p:nvPr/>
        </p:nvPicPr>
        <p:blipFill>
          <a:blip r:embed="rId2"/>
          <a:stretch/>
        </p:blipFill>
        <p:spPr>
          <a:xfrm>
            <a:off x="6429240" y="4000680"/>
            <a:ext cx="1428840" cy="4968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G:\Chaos macht Schule\Mittelstufe - Wilhelm-Gymnasium - HH-Harvestehude\Keynote\screenshot 51.png"/>
          <p:cNvPicPr/>
          <p:nvPr/>
        </p:nvPicPr>
        <p:blipFill>
          <a:blip r:embed="rId3"/>
          <a:stretch/>
        </p:blipFill>
        <p:spPr>
          <a:xfrm>
            <a:off x="4857840" y="2857680"/>
            <a:ext cx="1803240" cy="9903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7" descr="G:\Chaos macht Schule\Mittelstufe - Wilhelm-Gymnasium - HH-Harvestehude\Keynote\Bild 25.png"/>
          <p:cNvPicPr/>
          <p:nvPr/>
        </p:nvPicPr>
        <p:blipFill>
          <a:blip r:embed="rId4"/>
          <a:stretch/>
        </p:blipFill>
        <p:spPr>
          <a:xfrm>
            <a:off x="1071720" y="2928960"/>
            <a:ext cx="2422440" cy="12016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G:\Chaos macht Schule\Mittelstufe - Wilhelm-Gymnasium - HH-Harvestehude\Keynote\screenshot 53.png"/>
          <p:cNvPicPr/>
          <p:nvPr/>
        </p:nvPicPr>
        <p:blipFill>
          <a:blip r:embed="rId5"/>
          <a:stretch/>
        </p:blipFill>
        <p:spPr>
          <a:xfrm>
            <a:off x="2643120" y="4071960"/>
            <a:ext cx="3594240" cy="1079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G:\Chaos macht Schule\Mittelstufe - Wilhelm-Gymnasium - HH-Harvestehude\Keynote\screenshot 49.png"/>
          <p:cNvPicPr/>
          <p:nvPr/>
        </p:nvPicPr>
        <p:blipFill>
          <a:blip r:embed="rId6"/>
          <a:stretch/>
        </p:blipFill>
        <p:spPr>
          <a:xfrm>
            <a:off x="785880" y="5357880"/>
            <a:ext cx="2428920" cy="5634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G:\Chaos macht Schule\Mittelstufe - Wilhelm-Gymnasium - HH-Harvestehude\Keynote\screenshot 52.png"/>
          <p:cNvPicPr/>
          <p:nvPr/>
        </p:nvPicPr>
        <p:blipFill>
          <a:blip r:embed="rId7"/>
          <a:stretch/>
        </p:blipFill>
        <p:spPr>
          <a:xfrm>
            <a:off x="5000760" y="4929120"/>
            <a:ext cx="1828800" cy="914400"/>
          </a:xfrm>
          <a:prstGeom prst="rect">
            <a:avLst/>
          </a:prstGeom>
          <a:ln w="0">
            <a:noFill/>
          </a:ln>
        </p:spPr>
      </p:pic>
      <p:sp>
        <p:nvSpPr>
          <p:cNvPr id="94" name="Gerade Verbindung 13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Picture 3" descr="G:\chaosknoten.png"/>
          <p:cNvPicPr/>
          <p:nvPr/>
        </p:nvPicPr>
        <p:blipFill>
          <a:blip r:embed="rId8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09-04-06T09:38:10Z</dcterms:modified>
  <cp:revision>103</cp:revision>
  <dc:subject/>
  <dc:title>Folie 1</dc:title>
</cp:coreProperties>
</file>